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26803"/>
        <c:axId val="21983338"/>
      </c:barChart>
      <c:catAx>
        <c:axId val="11426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3338"/>
        <c:crosses val="autoZero"/>
        <c:auto val="1"/>
        <c:lblAlgn val="ctr"/>
        <c:lblOffset val="100"/>
        <c:noMultiLvlLbl val="0"/>
      </c:catAx>
      <c:valAx>
        <c:axId val="21983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6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75A-186D-4A2F-8FBB-74A8B19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98C-BD87-4255-A764-2A7C5A0B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C93-8EEF-41A9-B4EA-4BED754E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563-8FA7-49FD-AEB1-5E5A8A05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6AA-29A0-4832-BE15-6D5B933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D28-D1C7-4DE1-878A-5ECBCDEF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8ED-9A82-447C-92F5-E01C0BE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41E-AE75-496E-8B97-AFBA8E92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B21-3B80-415F-B64B-0FBEA2F7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93A-8CFE-4F45-AFE3-095BD4D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165-E96D-493B-90C5-EA41E99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0B8-492B-4792-B4CC-A6E6DDD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351F2-D073-4D81-9AD1-BFEDEC2C5E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